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CF2-FD57-4D1D-AFF7-63D5F2C2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D25-F72D-4661-84E7-1E0FC73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299-CABB-437F-A188-6EBF541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8C0-A785-42E1-A84C-7E6F0277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07C9-8653-4BB1-9268-2ACD3674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629C-8159-4393-83AB-7527DA01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7E76-C0E4-4B88-ABC4-06C9169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334-A04D-43F8-A336-40749ED9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B90B-2C93-4D31-9C31-15F60E92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03F7-928A-41D6-BBF4-92D51527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B3BC-065F-4F1A-B3DC-72DC418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402-0003-4692-89B2-8C17B08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04C1-8A8E-4CBA-AA93-A15FDE5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2EF9-AE19-4815-B6A2-377D498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2DA4-FC4F-40F7-ADBA-46371A4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8EB0-A2A2-4F68-8FA2-FFD1A1B8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E9F1-9B77-4070-835A-E9D1D363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EAE-7CE7-4D9F-8193-EE2548C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0A2-94DE-4E9B-BC8F-4EECAEF1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4D0-DCF9-4F9A-92EE-AAE6886B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855-303B-425D-A9A0-653118F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58F-4CF6-4975-B0F4-B6E8CF4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F88-389C-4946-9AEF-FD145CB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FF2-ABE4-4C54-86C1-3025790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00B-91A0-4DFD-B84B-4BE5ABB7EE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6C8-A89E-4FAE-AE1E-7E79AD9B7B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images/view;_ylt=A0PDoX2Gh15OdQsAcpqJzbkF;_ylu=X3oDMTBlMTQ4cGxyBHNlYwNzcgRzbGsDaW1n?back=http%3A%2F%2Fimages.search.yahoo.com%2Fsearch%2Fimages%3Fp%3Dconcav%2Blense%26n%3D30%26ei%3Dutf-8%26y%3DSearch%26b%3D1%26tab%3Dorganic&amp;w=398&amp;h=285&amp;imgurl=1.bp.blogspot.com%2F_g2ifJfT9pHE%2FTGEY57xe1qI%2FAAAAAAAAAIE%2FEPmjxJYo0qs%2Fs1600%2Fconcave%2Blens.jpg&amp;rurl=http%3A%2F%2Fbeansidea.blogspot.com%2F2010%2F06%2Fcreative-thinking-week-4.html&amp;size=16.3+KB&amp;name=concave%2Blens.jpg&amp;p=concav+lense&amp;oid=92cc3db917f3373fdfc2a7ec53ae10cb&amp;fr2=&amp;fr=&amp;rw=concave+lense&amp;tt=concave%2Blens.jpg&amp;b=0&amp;ni=30&amp;no=18&amp;tab=organic&amp;sigr=12344i235&amp;sigb=1328d92ua&amp;sigi=12pfnhsm7&amp;.crumb=b7YQXlm6GF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РАКЦИЈА И АКОМОДА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4339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ф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р Сунчица Срећ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 моћи преламања и величине предње задњег дијаметра је  такав да се светлосни зраци који долазе из даљине преламају и секу у самој макули без учешћа акомод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даља тачка јасног вида је у бескона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ближа тачка punctum proksimum PP зависи од старости односно акомодационих способности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фракционе аномалије (аметропиј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аметропијом подразумевамо рефракционе аномалије: хиперметропију, миопију и астигмат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изометропија је неједнака рефракција на два ока ист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Хиперметр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47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метропија је рефракциона аномалија код које се паралелни светлосни зраци који долазе из даљине фокусирају иза мрежњаче без учешћа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: осовинска (око мање од 24 mm), ређе cornea plana и афак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нички три облика хиперметропије: тотална, латентна и манифес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а сабирним конвексним сочи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дус : pseudoneuritis hypermetro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thumbnail"/>
          <p:cNvPicPr/>
          <p:nvPr/>
        </p:nvPicPr>
        <p:blipFill>
          <a:blip r:embed="rId1"/>
          <a:stretch/>
        </p:blipFill>
        <p:spPr>
          <a:xfrm>
            <a:off x="6451560" y="2428920"/>
            <a:ext cx="269244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597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опија је рефракциона аномалија код које паралелни светлосни снопови који долазе из даљине после преламања кроз рожњачу и сочиво стварају фокус пре мрежњаче у стакластом телу и доспевши иза фокуса у стање дивергенције, стварају на ретини расипне круг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г аксијални (око веће од 24 mm или прејака преломна моћ ока (keratokonus, spherophakia, lenticon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гује се конкавним расипним сочивима, контактним сочивима, рефрактивном хирургијом, интраокуларном уградњом  "iris claw"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thumbnail"/>
          <p:cNvPicPr/>
          <p:nvPr/>
        </p:nvPicPr>
        <p:blipFill>
          <a:blip r:embed="rId1"/>
          <a:stretch/>
        </p:blipFill>
        <p:spPr>
          <a:xfrm>
            <a:off x="6251400" y="1484280"/>
            <a:ext cx="289260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thumbnail"/>
          <p:cNvPicPr/>
          <p:nvPr/>
        </p:nvPicPr>
        <p:blipFill>
          <a:blip r:embed="rId1"/>
          <a:stretch/>
        </p:blipFill>
        <p:spPr>
          <a:xfrm>
            <a:off x="611280" y="1628640"/>
            <a:ext cx="3887640" cy="29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thumbnail"/>
          <p:cNvPicPr/>
          <p:nvPr/>
        </p:nvPicPr>
        <p:blipFill>
          <a:blip r:embed="rId2"/>
          <a:stretch/>
        </p:blipFill>
        <p:spPr>
          <a:xfrm>
            <a:off x="4572000" y="1628640"/>
            <a:ext cx="4392720" cy="287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84360" y="501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atok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78800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atogl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ио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07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а величини се деле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е до  6D, средње до 12D и малигне преко 1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Малигна миоп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је у раном детињству, често је насле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генеративне промене на очном дну (conus myopicus, staphiloma posticum verum scarpe, миопна хороидоза, опацитати у стакластом телу, Fuchsova мрља, аблација рети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егенеративна миоп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Detail"/>
          <p:cNvPicPr/>
          <p:nvPr/>
        </p:nvPicPr>
        <p:blipFill>
          <a:blip r:embed="rId1"/>
          <a:stretch/>
        </p:blipFill>
        <p:spPr>
          <a:xfrm>
            <a:off x="900000" y="1268280"/>
            <a:ext cx="3745080" cy="3206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thumbnail"/>
          <p:cNvPicPr/>
          <p:nvPr/>
        </p:nvPicPr>
        <p:blipFill>
          <a:blip r:embed="rId2"/>
          <a:stretch/>
        </p:blipFill>
        <p:spPr>
          <a:xfrm>
            <a:off x="5651640" y="4076640"/>
            <a:ext cx="2735280" cy="254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thumbnail"/>
          <p:cNvPicPr/>
          <p:nvPr/>
        </p:nvPicPr>
        <p:blipFill>
          <a:blip r:embed="rId3"/>
          <a:stretch/>
        </p:blipFill>
        <p:spPr>
          <a:xfrm>
            <a:off x="5651640" y="1268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thumbnail"/>
          <p:cNvPicPr/>
          <p:nvPr/>
        </p:nvPicPr>
        <p:blipFill>
          <a:blip r:embed="rId4"/>
          <a:stretch/>
        </p:blipFill>
        <p:spPr>
          <a:xfrm>
            <a:off x="971640" y="465300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стигматизам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54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астигматизма постоје сложени оптички одн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а једне жиже већ две жижне линије које одговарају главним преломним меридијанима (Šturmov коно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ључиво је везан за промену односа закривљености рожњ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ан меридијан прелама најјаче, док меридијан под углом од 90º најслаб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thumbnail"/>
          <p:cNvPicPr/>
          <p:nvPr/>
        </p:nvPicPr>
        <p:blipFill>
          <a:blip r:embed="rId1"/>
          <a:stretch/>
        </p:blipFill>
        <p:spPr>
          <a:xfrm>
            <a:off x="5940360" y="2421000"/>
            <a:ext cx="28195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ОШТРИНА ВИД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704fc"/>
                </a:solidFill>
                <a:latin typeface="Arial"/>
              </a:rPr>
              <a:t>Оштрина вида је основна функција ока и зависи од два фактор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идности оптичких медија, анатомске грађе сензорне ретине и виших видних пут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клађености јачине преломног апарата ока и предње задње осовине 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ОШТРИНА ВИД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02152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ФИНИЦИЈ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штрина вида је способност ока да види одвојено две суседне тачке под одређеним минималним уг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separab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дв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не могу видети одвојено ако је угао између њих мањи од  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visibe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минимална величина да би предмет уопште био опажен и износи  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cognoscib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угао под који се распознаје облик и износи 5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и рефракциј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фракција је део оптике која проучава преламање светл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фракциј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ља однос између дужине предње задње осовине ока и јачине  преломног апарата ока (рожњаче и сочи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ачка најјаснијег ви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18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предуслов да се две тачке перципирају као одвојене ја да  њихови оштро оцртани ликови падну на два чепића fovee тако да између њих остане један ненадражен чеп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ђа foveole: само чепићи, биполарне и ганглијске ћелије су померене латерално, аваскуларна је, једном чепићу одговара једна биполарна ћелија, једна ганглијска, једно влакно у видном п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thumbnail"/>
          <p:cNvPicPr/>
          <p:nvPr/>
        </p:nvPicPr>
        <p:blipFill>
          <a:blip r:embed="rId1"/>
          <a:srcRect l="0" t="0" r="6727" b="0"/>
          <a:stretch/>
        </p:blipFill>
        <p:spPr>
          <a:xfrm>
            <a:off x="5580000" y="4508640"/>
            <a:ext cx="3168720" cy="208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degeneracija_makula_lutee"/>
          <p:cNvPicPr/>
          <p:nvPr/>
        </p:nvPicPr>
        <p:blipFill>
          <a:blip r:embed="rId2"/>
          <a:stretch/>
        </p:blipFill>
        <p:spPr>
          <a:xfrm>
            <a:off x="5580000" y="1413000"/>
            <a:ext cx="31323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thumbnail"/>
          <p:cNvPicPr/>
          <p:nvPr/>
        </p:nvPicPr>
        <p:blipFill>
          <a:blip r:embed="rId1"/>
          <a:stretch/>
        </p:blipFill>
        <p:spPr>
          <a:xfrm>
            <a:off x="6286680" y="1916280"/>
            <a:ext cx="2857320" cy="21999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ОШТРИНА ВИД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4198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рина вида опада са удаљавањем од фове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вици жуте мрље је ½ нормалних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папиларно је 0,1 и м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рина вида се развија до 6-7 год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месечна беба има видну оштрину око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ид развоја видног акта (конгенитална и секундарна катаракта) доводи до депривационе амблио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дређивање оштрине ви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јективна мет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јективна мет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thumbnail"/>
          <p:cNvPicPr/>
          <p:nvPr/>
        </p:nvPicPr>
        <p:blipFill>
          <a:blip r:embed="rId1"/>
          <a:stretch/>
        </p:blipFill>
        <p:spPr>
          <a:xfrm>
            <a:off x="1187280" y="378936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thumbnail"/>
          <p:cNvPicPr/>
          <p:nvPr/>
        </p:nvPicPr>
        <p:blipFill>
          <a:blip r:embed="rId2"/>
          <a:srcRect l="0" t="7287" r="28949" b="0"/>
          <a:stretch/>
        </p:blipFill>
        <p:spPr>
          <a:xfrm>
            <a:off x="4859280" y="3716280"/>
            <a:ext cx="2266920" cy="2051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9"/>
          <p:cNvSpPr/>
          <p:nvPr/>
        </p:nvSpPr>
        <p:spPr>
          <a:xfrm>
            <a:off x="1116000" y="59500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oltov пр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5364000" y="602136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ügerove к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Видна оштрина-Визу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solidFill>
            <a:srgbClr val="c704f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V = d /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– растојање са кога се врши испитивање (6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– растојање са кога особа са нормалним видом треба да препозна понуђени сим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594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СУБЈЕКТИВНА МЕТ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Оптотип, сет пробних стакала, пробни рам, астигматска леп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exam-retinoscopy-175x260"/>
          <p:cNvPicPr/>
          <p:nvPr/>
        </p:nvPicPr>
        <p:blipFill>
          <a:blip r:embed="rId1"/>
          <a:stretch/>
        </p:blipFill>
        <p:spPr>
          <a:xfrm>
            <a:off x="5796000" y="2320920"/>
            <a:ext cx="3024000" cy="453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2972a3df508e4bf3e22a2dac7935ffc_lead_image"/>
          <p:cNvPicPr/>
          <p:nvPr/>
        </p:nvPicPr>
        <p:blipFill>
          <a:blip r:embed="rId2"/>
          <a:stretch/>
        </p:blipFill>
        <p:spPr>
          <a:xfrm>
            <a:off x="900000" y="1268280"/>
            <a:ext cx="3959280" cy="177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thumbnail"/>
          <p:cNvPicPr/>
          <p:nvPr/>
        </p:nvPicPr>
        <p:blipFill>
          <a:blip r:embed="rId3"/>
          <a:stretch/>
        </p:blipFill>
        <p:spPr>
          <a:xfrm>
            <a:off x="1258920" y="5013360"/>
            <a:ext cx="3600360" cy="184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thumbnail"/>
          <p:cNvPicPr/>
          <p:nvPr/>
        </p:nvPicPr>
        <p:blipFill>
          <a:blip r:embed="rId4"/>
          <a:stretch/>
        </p:blipFill>
        <p:spPr>
          <a:xfrm>
            <a:off x="5580000" y="189000"/>
            <a:ext cx="285768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убјективна метод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ацијент седи на 6 m од оптотипа, испитује се свако око поједина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 Detail"/>
          <p:cNvPicPr/>
          <p:nvPr/>
        </p:nvPicPr>
        <p:blipFill>
          <a:blip r:embed="rId1"/>
          <a:stretch/>
        </p:blipFill>
        <p:spPr>
          <a:xfrm>
            <a:off x="324000" y="3213000"/>
            <a:ext cx="3801960" cy="2801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age Detail"/>
          <p:cNvPicPr/>
          <p:nvPr/>
        </p:nvPicPr>
        <p:blipFill>
          <a:blip r:embed="rId2"/>
          <a:stretch/>
        </p:blipFill>
        <p:spPr>
          <a:xfrm>
            <a:off x="4140360" y="3357720"/>
            <a:ext cx="500364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ОБЈЕКТИВНА МЕТ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Офталмоск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Рефрактометр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кијаск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Оптокинетски нистагм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p_2467621.jpg"/>
          <p:cNvPicPr/>
          <p:nvPr/>
        </p:nvPicPr>
        <p:blipFill>
          <a:blip r:embed="rId1"/>
          <a:stretch/>
        </p:blipFill>
        <p:spPr>
          <a:xfrm>
            <a:off x="5580000" y="2060640"/>
            <a:ext cx="3402000" cy="43196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АКОМОДАЦ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Способност ока да на различитим растојањима посматраног предмета, а у границама између најближе и најдаље тачке јасног вида може да ви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матране предмет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зива се  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АКОМО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комодација има активну компоненту – цилијарни мишић и пасивну компоненту-соч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ОБИМ И ШИРИНА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ОБИМ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с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 диоптријам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зависис од рефракције већ од узраста и склерозе соч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ШИРИНА АКОМОДАЦИЈЕ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зражава с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у метрима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дставља растојање од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тачке најдаљег вида (PR) до тачке најближег вида (PP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зависи од рефра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ПОРЕМЕЋАЈИ АКОМОДАЦИЈ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ПРЕЗБИОП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старачка далековидост</a:t>
            </a:r>
            <a:r>
              <a:rPr b="0" lang="sr-CS" sz="2400" spc="-1" strike="noStrike">
                <a:solidFill>
                  <a:srgbClr val="c704fc"/>
                </a:solidFill>
                <a:latin typeface="Arial"/>
              </a:rPr>
              <a:t>)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са 45 година обим комодације опада испод  4D. Коригује се према таблицама тако да се на преостали обим акомодације дода корекција која омогућава нормалан рад на  25 c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ПАРАЛИЗА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централног и периферног порекла (lues cerebri, дифтерија, encephalitis letargica, ботулизам, тровање гљив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имена атро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c704fc"/>
                </a:solidFill>
                <a:latin typeface="Arial"/>
              </a:rPr>
              <a:t>СПАЗАМ АКОМОДАЦИЈ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хиперметропи после дужег рада на близину, после примене миотика. Манифестује се боловима у очима, глави, узаном зеницом, акомодативном миоп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ечење –атропинска циклоплег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РИГОВАЊ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ПРЕЗБИОПИЈ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000"/>
            </a:br>
            <a:r>
              <a:rPr b="0" lang="sr-Latn-CS" sz="30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Год .      Обим акомодације       Дефицит акомо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4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3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0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2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1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55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5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2,5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60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1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3,0 dp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&gt;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60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0,0 dptr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         3,5 - 4,0 dptr Корекција зависи од заним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и рефракциј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56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лост се простире праволинијски кроз хомогену средину, али при преласку из једне у другу средину мења права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реласку из оптички ређе (ваздух) у оптички гушћу (стакло) зраци се ломе ка нор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адни угао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ломног угла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04fc"/>
                </a:solidFill>
                <a:latin typeface="Arial"/>
              </a:rPr>
              <a:t>Индекс преламањ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I ) =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зду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вода  = 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зду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кло = 1,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humbnail"/>
          <p:cNvPicPr/>
          <p:nvPr/>
        </p:nvPicPr>
        <p:blipFill>
          <a:blip r:embed="rId1"/>
          <a:stretch/>
        </p:blipFill>
        <p:spPr>
          <a:xfrm>
            <a:off x="6300720" y="2205000"/>
            <a:ext cx="284328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Контакт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нвексноконкавног облика при чему јачина закривљености преломне површине одређује моћ прелам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змеђу задње стране сочива и епитела рожњаче постоји равномерни слој суза </a:t>
            </a:r>
            <a:r>
              <a:rPr b="0" lang="sl-SI" sz="2800" spc="-1" strike="noStrike">
                <a:solidFill>
                  <a:srgbClr val="c704fc"/>
                </a:solidFill>
                <a:latin typeface="Arial"/>
              </a:rPr>
              <a:t>»пливајуће сочиво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No Patient (0), 21_10_03 16_07_53, Not-Assigned"/>
          <p:cNvPicPr/>
          <p:nvPr/>
        </p:nvPicPr>
        <p:blipFill>
          <a:blip r:embed="rId1"/>
          <a:stretch/>
        </p:blipFill>
        <p:spPr>
          <a:xfrm>
            <a:off x="5219640" y="1773360"/>
            <a:ext cx="320364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6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Предности контактних сочи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532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ењају величину посматраних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ља корекција анизометр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а ирегуларног астигматиз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минишу недостатак сочива у наочарима: сферну, хроматску аберацију, призматски ефекат,нема сужења видног поља, замагљења наоч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да маскирају деформације дужице и пуп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ски код неких обољења рожњ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Oftalmologija1"/>
          <p:cNvPicPr/>
          <p:nvPr/>
        </p:nvPicPr>
        <p:blipFill>
          <a:blip r:embed="rId1"/>
          <a:stretch/>
        </p:blipFill>
        <p:spPr>
          <a:xfrm>
            <a:off x="5796000" y="1484280"/>
            <a:ext cx="3073320" cy="2133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scleral%20lens%20on%20post-lasik%20cornea"/>
          <p:cNvPicPr/>
          <p:nvPr/>
        </p:nvPicPr>
        <p:blipFill>
          <a:blip r:embed="rId2"/>
          <a:stretch/>
        </p:blipFill>
        <p:spPr>
          <a:xfrm>
            <a:off x="6012000" y="3933720"/>
            <a:ext cx="246996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едостаци контактних сочив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ксија рожњаче ( решава се формом сочива и избором сочива која имају већу пропустљивост за  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ност развоја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ложења на сочиву протеинских депозита из с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ја вежњаче гигантопапиларни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ктивити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шкоће у постављању и одржавањ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а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од радника у задимљеним просторијама и код испаравања у вазд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c704fc"/>
                </a:solidFill>
                <a:latin typeface="Arial"/>
              </a:rPr>
              <a:t>Рефрактивна хирург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Lasi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Laser In Situ Keratomileusi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у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ња епителног флапа третира се средњи део стр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PR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фоторефрактивна кератотомиј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EXIMER ласер</a:t>
            </a:r>
            <a:r>
              <a:rPr b="0" lang="sr-CS" sz="2000" spc="-1" strike="noStrike">
                <a:solidFill>
                  <a:srgbClr val="c704fc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тира се предњи део стро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Femtosecond-laseri:small-incision lenticular extraction (SmILE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Најчешће индик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пија 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 –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метропија 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Регуларни астигматизам ( do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А</a:t>
            </a:r>
            <a:r>
              <a:rPr b="0" lang="sr-CS" sz="2000" spc="-1" strike="noStrike">
                <a:solidFill>
                  <a:srgbClr val="c704fc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солутне</a:t>
            </a:r>
            <a:r>
              <a:rPr b="0" lang="sr-CS" sz="2000" spc="-1" strike="noStrike">
                <a:solidFill>
                  <a:srgbClr val="c704fc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c704fc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c704fc"/>
                </a:solidFill>
                <a:latin typeface="Arial"/>
              </a:rPr>
              <a:t>релативне контраинд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слови : &gt;18 г, стабилна рефракција 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есе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starovidnost1"/>
          <p:cNvPicPr/>
          <p:nvPr/>
        </p:nvPicPr>
        <p:blipFill>
          <a:blip r:embed="rId1"/>
          <a:stretch/>
        </p:blipFill>
        <p:spPr>
          <a:xfrm>
            <a:off x="6227640" y="476280"/>
            <a:ext cx="259236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чив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ива су оптички активна тела ограничена сферним, односно сферним и равним површи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но од тога да ли светлост након проласка кроз сочиво доспева у стање конвергенц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дивергенц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еле се на конвексна ( сабирна) и конкавна (расипна) соч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humbnail"/>
          <p:cNvPicPr/>
          <p:nvPr/>
        </p:nvPicPr>
        <p:blipFill>
          <a:blip r:embed="rId1"/>
          <a:stretch/>
        </p:blipFill>
        <p:spPr>
          <a:xfrm>
            <a:off x="6084720" y="4365720"/>
            <a:ext cx="2857680" cy="217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thumbnail"/>
          <p:cNvPicPr/>
          <p:nvPr/>
        </p:nvPicPr>
        <p:blipFill>
          <a:blip r:embed="rId2"/>
          <a:stretch/>
        </p:blipFill>
        <p:spPr>
          <a:xfrm>
            <a:off x="5796000" y="333360"/>
            <a:ext cx="285732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humbnail"/>
          <p:cNvPicPr/>
          <p:nvPr/>
        </p:nvPicPr>
        <p:blipFill>
          <a:blip r:embed="rId3"/>
          <a:stretch/>
        </p:blipFill>
        <p:spPr>
          <a:xfrm>
            <a:off x="6012000" y="2492280"/>
            <a:ext cx="28573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абир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60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редишњем делу су де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већи и бли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матски као две призме спојене ба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зрак при проласку кроз сочиво ломи се ка базама приз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thumbnail"/>
          <p:cNvPicPr/>
          <p:nvPr/>
        </p:nvPicPr>
        <p:blipFill>
          <a:blip r:embed="rId1"/>
          <a:stretch/>
        </p:blipFill>
        <p:spPr>
          <a:xfrm>
            <a:off x="6286680" y="1916280"/>
            <a:ext cx="285732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сип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0326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ња су у средњем д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 посматраног предмета изгледа мањи и даљ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елни светлосни сноп при проласку кроз њих доспева у стање диверген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 је жижа виртуе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 се замислити као да је састављено од две призме спојене врховима ка цен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676440"/>
            <a:ext cx="27716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илиндрична сочи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 одсечак (сабирна) или отисак (расипна)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реламају светлост само у једном активном меридијану, док кроз неактивни меридијан пролазе без прелам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едостаци сочива с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Сферна абер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највише преламају зраци који падају на периферију сочи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Хроматска абер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најаче преламају светлосни зрац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лавог дела спек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Астигматизам косих зрако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настаје због неправилног преламања зракова који падају косо на сочиво ван оптичког центр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емена сочива имају знaчајно смањење ових абе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ИОПТРИКА О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Camera obscura</a:t>
            </a:r>
            <a:r>
              <a:rPr b="0" lang="en-US" sz="2800" spc="-1" strike="noStrike">
                <a:solidFill>
                  <a:srgbClr val="c704fc"/>
                </a:solidFill>
                <a:latin typeface="Arial"/>
              </a:rPr>
              <a:t> –</a:t>
            </a: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 мрачн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c704fc"/>
                </a:solidFill>
                <a:latin typeface="Arial"/>
              </a:rPr>
              <a:t>Дефиниција рефракције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нос дужине ока мора бити такав да паралелни светлосни зраци који долазе из даљине после преламања кроз рожњачу и сочиво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варају фокус, оштар лик у пределу макуле без учешћа акомод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ужина ока (24 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оћ преламања оптичког систе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 4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 17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упно=60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svetloba-oko-anatomija"/>
          <p:cNvPicPr/>
          <p:nvPr/>
        </p:nvPicPr>
        <p:blipFill>
          <a:blip r:embed="rId1"/>
          <a:stretch/>
        </p:blipFill>
        <p:spPr>
          <a:xfrm>
            <a:off x="5940360" y="475308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6:01:24Z</dcterms:created>
  <dc:creator>Bife</dc:creator>
  <dc:description/>
  <dc:language>en-US</dc:language>
  <cp:lastModifiedBy>Windows User</cp:lastModifiedBy>
  <dcterms:modified xsi:type="dcterms:W3CDTF">2020-09-26T16:03:02Z</dcterms:modified>
  <cp:revision>280</cp:revision>
  <dc:subject/>
  <dc:title>Slide 1</dc:title>
</cp:coreProperties>
</file>