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CC5-E18D-4BD8-9CC9-357EC8E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A55-E130-4169-9428-5C1C360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B5F-990E-4063-AB9A-84415C4D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46F-1F56-427F-8493-53285917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DFD4-E8FA-47A2-911A-2238BD0B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DE9B-4E5E-48BD-9CEC-44E8C03E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D977-E60C-4D86-A6C5-A60D039D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261-0DF4-4E0E-B120-EB081C9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F79-74F9-4C57-A0FB-4C18D3B3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BA5-6279-423D-BE22-C139356D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941F-2C8D-4AA0-AA80-112B9E6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6BF-9D90-4B44-B9A0-4614853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3B13-FDBE-4F97-85E6-AAB6A0C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6870-629C-4EBD-B3E5-4763FF4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5A56-35B1-46DC-B364-14230C45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4093-1437-4D6E-A38F-2A9077C3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C9BF-5A85-4EAA-A11C-8A1A2C76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C90-71D3-4BC5-9A53-E0E340C2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411-361C-4196-BFFC-09CD2B39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E2E-CE8B-40D9-AB86-7748949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234-2EBC-44AE-A70A-4DC0FCC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ECE-F061-42B3-B423-D7827D3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5F0-43DE-4443-8641-251F6EB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456-BCC5-47C7-8305-8C8846B7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6A4-80C1-4337-9983-562A351C9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162A-2BC6-447E-971E-0BC88A2B96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РАКЦИЈА И АКОМОДА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вежб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ф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р Сунчица Срећ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егенеративна мио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Detail"/>
          <p:cNvPicPr/>
          <p:nvPr/>
        </p:nvPicPr>
        <p:blipFill>
          <a:blip r:embed="rId1"/>
          <a:stretch/>
        </p:blipFill>
        <p:spPr>
          <a:xfrm>
            <a:off x="900000" y="1268280"/>
            <a:ext cx="3745080" cy="320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humbnail"/>
          <p:cNvPicPr/>
          <p:nvPr/>
        </p:nvPicPr>
        <p:blipFill>
          <a:blip r:embed="rId2"/>
          <a:stretch/>
        </p:blipFill>
        <p:spPr>
          <a:xfrm>
            <a:off x="5651640" y="4076640"/>
            <a:ext cx="2735280" cy="254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thumbnail"/>
          <p:cNvPicPr/>
          <p:nvPr/>
        </p:nvPicPr>
        <p:blipFill>
          <a:blip r:embed="rId3"/>
          <a:stretch/>
        </p:blipFill>
        <p:spPr>
          <a:xfrm>
            <a:off x="5651640" y="1268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thumbnail"/>
          <p:cNvPicPr/>
          <p:nvPr/>
        </p:nvPicPr>
        <p:blipFill>
          <a:blip r:embed="rId4"/>
          <a:stretch/>
        </p:blipFill>
        <p:spPr>
          <a:xfrm>
            <a:off x="971640" y="465300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игна миопија на десном 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опна дегенерација жуте мр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в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EG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тивна ЛФЦ баража палисадне дегене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шкарац стар 52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мнеза: носи наочаре за даљину, има проблем са чит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фталмолошка лична и породична анамнеза без знач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на анамнеза: ДМ тип 2,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: 1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VOS: 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c+1.0Dsph=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: 12 mmH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:14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изометроп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OS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 на предњем сегмент у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глед очног дна: налаз уредан, без промена за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 моћи преламања и величине предње задњег дијаметра је  такав да се светлосни зраци који долазе из даљине преламају и секу у самој макули без учешћа акомо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даља тачка јасног вида је у бескона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лижа тачка punctum proksimum PP зависи од старости односно акомодационих способности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6121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метропија је рефракциона аномалија код које се паралелни светлосни зраци који долазе из даљине фокусирају иза мрежњаче без учешћа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осовинска (око мање од 24 mm), ређе cornea plana и афак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чки три облика хиперметропије: тотална, латентна и манифес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сабирним конвексним сочи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ус : pseudoneuritis hypermetro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thumbnail"/>
          <p:cNvPicPr/>
          <p:nvPr/>
        </p:nvPicPr>
        <p:blipFill>
          <a:blip r:embed="rId1"/>
          <a:stretch/>
        </p:blipFill>
        <p:spPr>
          <a:xfrm>
            <a:off x="6451560" y="2428920"/>
            <a:ext cx="269244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аметропијом подразумевамо рефракционе аномалије: хиперметропију, миопију и астигмат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изометропија је неједнака рефракција на два ока ист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абир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редишњем делу су де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већи и бли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матски као две призме спојене 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з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 проласку кроз сочиво л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ка базама при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АКОМОДАЦ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пособност ока да на различитим растојањима посматраног предмета, а у границама између најближе и најдаље тачке јасног вида може да ви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матране предмет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зива се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АКОМО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а има активну компонент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лијарни мишић и пасивну компоненту-соч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диоптриј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е зависис од рефракције већ од узраста и склерозе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збиопија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изиолошко опадање акомодације условљено старењ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Год .      Обим акомодације       Дефицит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4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3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0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2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1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2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6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3,0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&gt;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60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0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 3,5 - 4,0 dptr Корекција зависи од заним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збипија-корекција за близ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+2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sph   OS:+3.00Ds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вет: контро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, HbA1c, TA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рниста и ендокри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трола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годиш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шкарац стар 39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си наочаре од детињства, повремено носи и контактна соч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чна и породична офталмолошка анамнеза без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није добро виде са корек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тио је пад вида на десном о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метаморфопс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Наш пациј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D: cc-13.0=0.1            VOS:cc-7.0Dsph=1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:12 mmH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TOS:13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лаз на предњем сегменту ока у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ниоскопија: коморни угао отворен широк, нормалне пигм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ђен преглед у  максималној мидриј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yopic Macular Degeneration | Myopic Degeneration | pathological ..."/>
          <p:cNvPicPr/>
          <p:nvPr/>
        </p:nvPicPr>
        <p:blipFill>
          <a:blip r:embed="rId1"/>
          <a:srcRect l="20901" t="9299" r="15619" b="0"/>
          <a:stretch/>
        </p:blipFill>
        <p:spPr>
          <a:xfrm>
            <a:off x="755640" y="234936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Lattice Degeneration - The American Society of Retina Specialists"/>
          <p:cNvPicPr/>
          <p:nvPr/>
        </p:nvPicPr>
        <p:blipFill>
          <a:blip r:embed="rId2"/>
          <a:srcRect l="0" t="0" r="23737" b="20363"/>
          <a:stretch/>
        </p:blipFill>
        <p:spPr>
          <a:xfrm>
            <a:off x="4859280" y="1989000"/>
            <a:ext cx="3457800" cy="345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1"/>
          <p:cNvSpPr/>
          <p:nvPr/>
        </p:nvSpPr>
        <p:spPr>
          <a:xfrm>
            <a:off x="826920" y="5516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сно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21964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исадна дегенер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Амслерова мрежа и ОЦ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Amsler Grid | metamorphopsia | age related macular degeneration ..."/>
          <p:cNvPicPr/>
          <p:nvPr/>
        </p:nvPicPr>
        <p:blipFill>
          <a:blip r:embed="rId1"/>
          <a:stretch/>
        </p:blipFill>
        <p:spPr>
          <a:xfrm>
            <a:off x="1258920" y="2205000"/>
            <a:ext cx="2705040" cy="26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linical Management of Myopia in Adults: Treatment of Myopic CNV ..."/>
          <p:cNvPicPr/>
          <p:nvPr/>
        </p:nvPicPr>
        <p:blipFill>
          <a:blip r:embed="rId2"/>
          <a:srcRect l="39669" t="0" r="0" b="51484"/>
          <a:stretch/>
        </p:blipFill>
        <p:spPr>
          <a:xfrm>
            <a:off x="4427640" y="2289240"/>
            <a:ext cx="451008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688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ракциона аномалија код које паралелни светлосни снопови који долазе из даљине после преламања кроз рожњачу и сочиво стварају фокус пре мрежњаче у стакластом телу и доспевши иза фокуса у стање дивергенције, стварају на ретини расипне круг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аксијални (око веће од 24 mm или прејака преломна моћ ока (keratokonus, spherophakia, lentico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гује се конкавним расипним сочивима, контактним сочивима, рефрактивном хирургијом,  уградњом  “faknih “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thumbnail"/>
          <p:cNvPicPr/>
          <p:nvPr/>
        </p:nvPicPr>
        <p:blipFill>
          <a:blip r:embed="rId1"/>
          <a:stretch/>
        </p:blipFill>
        <p:spPr>
          <a:xfrm>
            <a:off x="6019920" y="1484280"/>
            <a:ext cx="3124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сип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6888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ња су у средњем д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мањи и даљ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ра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 проласку кроз њих доспев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стање диверген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 је жижа виртуе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 се замислити као да је састављено од две призме спојене врховима ка цен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thumbnail"/>
          <p:cNvPicPr/>
          <p:nvPr/>
        </p:nvPicPr>
        <p:blipFill>
          <a:blip r:embed="rId1"/>
          <a:stretch/>
        </p:blipFill>
        <p:spPr>
          <a:xfrm>
            <a:off x="6227640" y="5041800"/>
            <a:ext cx="2540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0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величини се деле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е до  6D, средње до 12D и малигне преко 1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4fc"/>
                </a:solidFill>
                <a:latin typeface="Arial"/>
              </a:rPr>
              <a:t>Малигна миоп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аје у раном детињству, често је насле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генеративне промене на очном дну (conus myopicus, staphiloma posticum verum scarpe, миопна хороидоза, опацитати у стакластом телу, Fuchsova мрља, аблација рет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ачка најјаснијег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18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предуслов да се две тачке перципирају као одвојене ја да  њихови оштро оцртани ликови падну на два чепића fovee тако да између њих остане један ненадражен чеп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ђа foveole: само чепићи, биполарне и ганглијске ћелије су померене латерално, аваскуларна је, једном чепићу одговара једна биполарна ћелија, једна ганглијска, једно влакно у видном п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thumbnail"/>
          <p:cNvPicPr/>
          <p:nvPr/>
        </p:nvPicPr>
        <p:blipFill>
          <a:blip r:embed="rId1"/>
          <a:srcRect l="0" t="0" r="6727" b="0"/>
          <a:stretch/>
        </p:blipFill>
        <p:spPr>
          <a:xfrm>
            <a:off x="5580000" y="4508640"/>
            <a:ext cx="3168720" cy="208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egeneracija_makula_lutee"/>
          <p:cNvPicPr/>
          <p:nvPr/>
        </p:nvPicPr>
        <p:blipFill>
          <a:blip r:embed="rId2"/>
          <a:stretch/>
        </p:blipFill>
        <p:spPr>
          <a:xfrm>
            <a:off x="5580000" y="1413000"/>
            <a:ext cx="31323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6:01:24Z</dcterms:created>
  <dc:creator>Bife</dc:creator>
  <dc:description/>
  <dc:language>en-US</dc:language>
  <cp:lastModifiedBy>Windows User</cp:lastModifiedBy>
  <dcterms:modified xsi:type="dcterms:W3CDTF">2020-09-26T16:54:46Z</dcterms:modified>
  <cp:revision>283</cp:revision>
  <dc:subject/>
  <dc:title>Slide 1</dc:title>
</cp:coreProperties>
</file>